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spacesound3.wav" ContentType="audio/x-wav"/>
  <Override PartName="/ppt/media/spship04.wav" ContentType="audio/x-wav"/>
  <Override PartName="/ppt/media/cool%20man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890-2C61-44F7-97C1-E21AC838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998-C3E1-4DB2-A8F9-F3BA3180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2D3-8293-4195-8CFF-AFB29404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DD2-51F8-41F8-AF08-2B321744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ABA-3152-46A1-ADAF-3847931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67C-335C-4972-9FF9-137F4239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30B-FD65-4931-8802-D4002989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67E-E73C-42F2-9F5B-D276AF34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D3E-2997-4199-96A8-7CB3F595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EDC-7715-4A17-9C42-41B6520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B37-4FBC-40B6-A070-4DDC813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45D-DC48-4095-AC6D-BB2958F1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8B2C-4100-440E-83DE-5D1295285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hzipup01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hzipup01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bserie06.wav"/><Relationship Id="rId34" Type="http://schemas.openxmlformats.org/officeDocument/2006/relationships/audio" Target="../media/bserie06.wav"/><Relationship Id="rId35" Type="http://schemas.openxmlformats.org/officeDocument/2006/relationships/audio" Target="../media/bserie06.wav"/><Relationship Id="rId36" Type="http://schemas.openxmlformats.org/officeDocument/2006/relationships/audio" Target="../media/bserie06.wav"/><Relationship Id="rId37" Type="http://schemas.openxmlformats.org/officeDocument/2006/relationships/audio" Target="../media/jetflyby2.wav"/><Relationship Id="rId38" Type="http://schemas.openxmlformats.org/officeDocument/2006/relationships/audio" Target="../media/jetflyby2.wav"/><Relationship Id="rId39" Type="http://schemas.openxmlformats.org/officeDocument/2006/relationships/audio" Target="../media/bserie06.wav"/><Relationship Id="rId40" Type="http://schemas.openxmlformats.org/officeDocument/2006/relationships/audio" Target="../media/bserie06.wav"/><Relationship Id="rId41" Type="http://schemas.openxmlformats.org/officeDocument/2006/relationships/audio" Target="../media/bserie06.wav"/><Relationship Id="rId42" Type="http://schemas.openxmlformats.org/officeDocument/2006/relationships/audio" Target="../media/hzipup01.wav"/><Relationship Id="rId43" Type="http://schemas.openxmlformats.org/officeDocument/2006/relationships/audio" Target="../media/zapbig0g.wav"/><Relationship Id="rId44" Type="http://schemas.openxmlformats.org/officeDocument/2006/relationships/audio" Target="../media/zapbig0g.wav"/><Relationship Id="rId45" Type="http://schemas.openxmlformats.org/officeDocument/2006/relationships/audio" Target="../media/zapbig0g.wav"/><Relationship Id="rId46" Type="http://schemas.openxmlformats.org/officeDocument/2006/relationships/audio" Target="../media/zapbig0g.wav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pacesound3.wav"/><Relationship Id="rId3" Type="http://schemas.openxmlformats.org/officeDocument/2006/relationships/audio" Target="../media/spacesound3.wav"/><Relationship Id="rId4" Type="http://schemas.openxmlformats.org/officeDocument/2006/relationships/audio" Target="../media/spship04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cool%20man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pacesound3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spship04.wav"/><Relationship Id="rId21" Type="http://schemas.openxmlformats.org/officeDocument/2006/relationships/audio" Target="../media/bserie06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bserie06.wav"/><Relationship Id="rId25" Type="http://schemas.openxmlformats.org/officeDocument/2006/relationships/audio" Target="../media/zipdn102.wav"/><Relationship Id="rId26" Type="http://schemas.openxmlformats.org/officeDocument/2006/relationships/audio" Target="../media/zipdn102.wav"/><Relationship Id="rId27" Type="http://schemas.openxmlformats.org/officeDocument/2006/relationships/audio" Target="../media/zapbig0g.wav"/><Relationship Id="rId28" Type="http://schemas.openxmlformats.org/officeDocument/2006/relationships/audio" Target="../media/hzipup01.wav"/><Relationship Id="rId29" Type="http://schemas.openxmlformats.org/officeDocument/2006/relationships/audio" Target="../media/bserie06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ipdn102.wav"/><Relationship Id="rId33" Type="http://schemas.openxmlformats.org/officeDocument/2006/relationships/audio" Target="../media/zapbig0g.wav"/><Relationship Id="rId34" Type="http://schemas.openxmlformats.org/officeDocument/2006/relationships/audio" Target="../media/hzipup01.wav"/><Relationship Id="rId35" Type="http://schemas.openxmlformats.org/officeDocument/2006/relationships/audio" Target="../media/bserie06.wav"/><Relationship Id="rId36" Type="http://schemas.openxmlformats.org/officeDocument/2006/relationships/audio" Target="../media/zapbig0g.wav"/><Relationship Id="rId37" Type="http://schemas.openxmlformats.org/officeDocument/2006/relationships/audio" Target="../media/zapbig0g.wav"/><Relationship Id="rId38" Type="http://schemas.openxmlformats.org/officeDocument/2006/relationships/audio" Target="../media/zipdn102.wav"/><Relationship Id="rId39" Type="http://schemas.openxmlformats.org/officeDocument/2006/relationships/audio" Target="../media/zapbig0g.wav"/><Relationship Id="rId40" Type="http://schemas.openxmlformats.org/officeDocument/2006/relationships/audio" Target="../media/hzipup01.wav"/><Relationship Id="rId41" Type="http://schemas.openxmlformats.org/officeDocument/2006/relationships/audio" Target="../media/bserie06.wav"/><Relationship Id="rId42" Type="http://schemas.openxmlformats.org/officeDocument/2006/relationships/audio" Target="../media/zapbig0g.wav"/><Relationship Id="rId43" Type="http://schemas.openxmlformats.org/officeDocument/2006/relationships/audio" Target="../media/cool%20man.wav"/><Relationship Id="rId4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pacesound3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spship04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hzipup01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cool%20man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6880" y="1341360"/>
                <a:ext cx="655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635800" y="1327320"/>
                <a:ext cx="1296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925640" y="20876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4120" y="352440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21240" y="34005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71680" y="274320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83040" y="3406680"/>
            <a:ext cx="76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70200" y="3414600"/>
            <a:ext cx="76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104 L -0.08455 -0.12717 L -0.15573 -0.1674 L -0.20069 -0.17526 L -0.23107 -0.15792 L -0.27795 -0.11399 L -0.30364 -0.08254 L -0.32604 -0.04809 L -0.33316 -0.00994 E">
                                      <p:cBhvr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71520" y="1297080"/>
                <a:ext cx="64594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878440" y="1293840"/>
                <a:ext cx="1344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873760" y="1285920"/>
                <a:ext cx="1344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89080" y="215280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7560" y="358920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4120" y="3436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05000" y="273996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9275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0040" y="343692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9751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976560"/>
            <a:ext cx="6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477504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1960" y="47577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47840" y="4759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8800" y="4749840"/>
            <a:ext cx="4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6080" y="477036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/>
          <p:nvPr/>
        </p:nvCxnSpPr>
        <p:spPr>
          <a:xfrm flipV="1" rot="16200000">
            <a:off x="2084760" y="26161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 rot="16200000">
            <a:off x="2030760" y="31924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 flipV="1" rot="16200000">
            <a:off x="2027520" y="521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flipV="1" rot="16200000">
            <a:off x="1629000" y="520848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322360" y="21589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51200" y="359568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7760" y="3443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38640" y="274644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51200" y="29336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33680" y="3443400"/>
            <a:ext cx="6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5240" y="3981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09960" y="3983040"/>
            <a:ext cx="6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73280" y="478152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65600" y="4764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81480" y="4765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62440" y="4756320"/>
            <a:ext cx="4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9720" y="477684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/>
          <p:nvPr/>
        </p:nvCxnSpPr>
        <p:spPr>
          <a:xfrm flipV="1" rot="16200000">
            <a:off x="4118400" y="26226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7" name=""/>
          <p:cNvCxnSpPr/>
          <p:nvPr/>
        </p:nvCxnSpPr>
        <p:spPr>
          <a:xfrm flipV="1" rot="16200000">
            <a:off x="4064400" y="31989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flipV="1" rot="16200000">
            <a:off x="4061160" y="52164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flipV="1" rot="16200000">
            <a:off x="3662640" y="52149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354400" y="4795920"/>
            <a:ext cx="6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8360" y="334332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6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07000" y="478008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73920" y="4695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8600" y="394668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5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30680" y="39798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0040" y="469908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22920" y="4691160"/>
            <a:ext cx="111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4960" y="2792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1688 L -0.08004 -0.09804 L -0.14774 -0.13225 L -0.19063 -0.13965 L -0.21962 -0.12439 L -0.26424 -0.08717 L -0.28872 -0.06104 L -0.31024 -0.03145 L -0.31736 0.00046 E">
                                      <p:cBhvr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2752 L -0.15868 -0.1674 L -0.29271 -0.22474 L -0.37743 -0.2363 L -0.43542 -0.21248 L -0.52344 -0.14867 L -0.57153 -0.10543 L -0.61458 -0.05549 L -0.6283 -0.00069 E">
                                      <p:cBhvr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17440" y="1333440"/>
                <a:ext cx="89265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441680" y="27669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70520" y="42037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7080" y="4051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57960" y="335448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0520" y="35416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4051440"/>
            <a:ext cx="96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4560" y="4589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38760" y="4591080"/>
            <a:ext cx="9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2600" y="538956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53722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0800" y="5373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81760" y="5376960"/>
            <a:ext cx="48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9040" y="538488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 flipV="1" rot="16200000">
            <a:off x="6237720" y="3230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 flipV="1" rot="16200000">
            <a:off x="6183720" y="38070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 flipV="1" rot="16200000">
            <a:off x="6180480" y="58244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 flipV="1" rot="16200000">
            <a:off x="5781960" y="58230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8640" y="2112840"/>
                <a:ext cx="2978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90800" y="2104920"/>
                <a:ext cx="1152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46080" y="3005280"/>
                <a:ext cx="21621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743360" y="5370480"/>
            <a:ext cx="4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7560" y="3755880"/>
            <a:ext cx="17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99"/>
                </a:solidFill>
                <a:latin typeface="Times New Roman"/>
              </a:rPr>
              <a:t>36.9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ship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5360" y="1400040"/>
                <a:ext cx="63248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÷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294000" y="29113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2840" y="434808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29040" y="4195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09920" y="34988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2840" y="36860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84480" y="4210200"/>
            <a:ext cx="9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76880" y="473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75160" y="4735440"/>
            <a:ext cx="9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44920" y="5533920"/>
            <a:ext cx="173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37240" y="5516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2760" y="55180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33720" y="5521320"/>
            <a:ext cx="4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21000" y="552924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 flipV="1" rot="16200000">
            <a:off x="508968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 rot="16200000">
            <a:off x="5036040" y="39513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 flipV="1" rot="16200000">
            <a:off x="5032800" y="5969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flipV="1" rot="16200000">
            <a:off x="4634280" y="59673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52600" y="2100240"/>
                <a:ext cx="31701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274760" y="2873520"/>
                <a:ext cx="2259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719760" y="237348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.8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42000" y="2494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23367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91320" y="1706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4992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53240" y="41418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12160" y="47451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28000" y="3584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80280" y="358920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59760" y="1676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6416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69080" y="16891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76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39000" y="41292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75480" y="47624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39080" y="16700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1160" y="5310360"/>
            <a:ext cx="12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8640" y="610236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23120" y="52974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560" y="59436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0760" y="3654360"/>
            <a:ext cx="15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99"/>
                </a:solidFill>
                <a:latin typeface="Times New Roman"/>
              </a:rPr>
              <a:t>4.4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spship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0440" y="1371600"/>
                <a:ext cx="87472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294000" y="29113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22840" y="434808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9040" y="4195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09920" y="34988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22840" y="36860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4480" y="4210200"/>
            <a:ext cx="9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 flipV="1" rot="16200000">
            <a:off x="508968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V="1" rot="16200000">
            <a:off x="5108760" y="466236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76360" y="2100240"/>
                <a:ext cx="3120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35000" y="2989440"/>
                <a:ext cx="2739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1811160" y="3639960"/>
            <a:ext cx="11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99"/>
                </a:solidFill>
                <a:latin typeface="Times New Roman"/>
              </a:rPr>
              <a:t>9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6480" y="4206960"/>
            <a:ext cx="3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27600" y="29145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2.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56440" y="435132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23200" y="42274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3640" y="357012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3.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6320" y="423396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pship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31, 5 – 10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10-28T15:55:30Z</dcterms:modified>
  <cp:revision>69</cp:revision>
  <dc:subject/>
  <dc:title>Slide 1</dc:title>
</cp:coreProperties>
</file>